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00F-86FA-4166-A842-0DF123B23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FDF-8832-47C5-B182-1E3EA6FBD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8058-147E-42B7-83A0-79ED549FB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A13-0305-44C0-AAC1-6873253A4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209D-6520-4B17-858D-03D3E6FAC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0621-5607-4482-9580-F2D7BC582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A21-CAD4-41A9-AE4A-B50C0026A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5E12-13A0-4F7E-8414-27D48F70E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D42F-8B92-4250-A98C-0DEA75FA2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A892-D92D-479C-9FD9-08649581B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2535-A62F-4B59-8689-955F08696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904-E386-4E37-85A4-3C169B3C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F92-D3B9-4A7B-B139-AD3A798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8F1-DE94-4698-95AD-7325C8FB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110-2D9E-4E99-8827-3E05E8C5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F94-261E-4A42-B2CA-92526ACC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2F6-A243-450C-935E-AE80B2D1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6DA-0A2B-49B8-A74C-B581022E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1A1-E646-4B74-BABE-45F0930F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5A4-B2C3-4379-929D-A33AFFE0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87B-A2FF-46BD-A490-4B0269C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F03-234F-4C43-8CD0-E68707A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5BC-0B59-479E-A8A6-7C1CF83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3ED-C3B5-4895-8463-AB5C4EA41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nzel-ush.wikispaces.com/" TargetMode="External"/><Relationship Id="rId2" Type="http://schemas.openxmlformats.org/officeDocument/2006/relationships/hyperlink" Target="http://www.teacherease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g of the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johnnycash.jpg"/>
          <p:cNvPicPr/>
          <p:nvPr/>
        </p:nvPicPr>
        <p:blipFill>
          <a:blip r:embed="rId1"/>
          <a:stretch/>
        </p:blipFill>
        <p:spPr>
          <a:xfrm>
            <a:off x="533520" y="1676520"/>
            <a:ext cx="4410000" cy="4087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10080" y="167652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hnny Ca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ing of Fire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eased 196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hapter 18 Sec 1 if you haven’t alre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Class Website and download the Progress Report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eacherEase and record your grade and any assignments that you are missing (if an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in to Mr. Frenzel by Mon. March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st 20 points you’ll ever 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renzel-ush.wikispaces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eachereas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gwallace.bmp"/>
          <p:cNvPicPr/>
          <p:nvPr/>
        </p:nvPicPr>
        <p:blipFill>
          <a:blip r:embed="rId1"/>
          <a:stretch/>
        </p:blipFill>
        <p:spPr>
          <a:xfrm>
            <a:off x="1143000" y="152388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jfkdallas.bmp"/>
          <p:cNvPicPr/>
          <p:nvPr/>
        </p:nvPicPr>
        <p:blipFill>
          <a:blip r:embed="rId2"/>
          <a:stretch/>
        </p:blipFill>
        <p:spPr>
          <a:xfrm>
            <a:off x="914400" y="3557520"/>
            <a:ext cx="4044960" cy="269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riedan1.jpg"/>
          <p:cNvPicPr/>
          <p:nvPr/>
        </p:nvPicPr>
        <p:blipFill>
          <a:blip r:embed="rId3"/>
          <a:stretch/>
        </p:blipFill>
        <p:spPr>
          <a:xfrm>
            <a:off x="5562720" y="1676520"/>
            <a:ext cx="167328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friedan2.jpg"/>
          <p:cNvPicPr/>
          <p:nvPr/>
        </p:nvPicPr>
        <p:blipFill>
          <a:blip r:embed="rId4"/>
          <a:stretch/>
        </p:blipFill>
        <p:spPr>
          <a:xfrm>
            <a:off x="7391520" y="1676520"/>
            <a:ext cx="1353960" cy="2179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7369200" y="442908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7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zip.jpg"/>
          <p:cNvPicPr/>
          <p:nvPr/>
        </p:nvPicPr>
        <p:blipFill>
          <a:blip r:embed="rId5"/>
          <a:stretch/>
        </p:blipFill>
        <p:spPr>
          <a:xfrm>
            <a:off x="5410080" y="4191120"/>
            <a:ext cx="1847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50’s Unit Test Top 5- Perio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1. Raquel Escalera – 102.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2. Kris Bolinger – 101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2. Jon Grossen – 101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4. Kasey Baker – 99.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#5. Samantha Newcomb – 97.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50’s Unit Test Top 5 – Perio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. Audrey Avrit – 100.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. Elise Thompson – 10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. Colin Pederson – 99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. Trystan Thomas – 99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. Isabelle Eclevia – 98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test Movements of the 1960’s and 1970’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3" descr="revolution.jpg"/>
          <p:cNvPicPr/>
          <p:nvPr/>
        </p:nvPicPr>
        <p:blipFill>
          <a:blip r:embed="rId1"/>
          <a:stretch/>
        </p:blipFill>
        <p:spPr>
          <a:xfrm>
            <a:off x="1066680" y="396252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women'srights.jpg"/>
          <p:cNvPicPr/>
          <p:nvPr/>
        </p:nvPicPr>
        <p:blipFill>
          <a:blip r:embed="rId2"/>
          <a:stretch/>
        </p:blipFill>
        <p:spPr>
          <a:xfrm>
            <a:off x="4724280" y="4125960"/>
            <a:ext cx="37562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 with a Part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some major protest movements that you have heard o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do you think that protest movements get star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“civil right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sis In Levit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w would you have felt if you were the Myers family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es it have matter if they were “put up to it” or if they moved in on their own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communities have the right to decide who gets to live there, or should it be free to anyone who can afford to live there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the black family can afford what the white families can afford, does that force them to reconsider their own social status?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you were the Myers family, would this have motivated you to speak out against segregatio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al Movements: Major Assig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will be dividing into groups of three and developing a research paper and visual presentation for the cl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pics will be chosen on Wednes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one group per topic (have back-up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will receive two periods of class time to work on your assig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ations are due April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pers are due April 6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st Mo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social protest movements get star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re some of the factors that led to the civil rights movem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sues would motivate you to join a protest movem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3:12:17Z</dcterms:created>
  <dc:creator>Rob</dc:creator>
  <dc:description/>
  <dc:language>en-US</dc:language>
  <cp:lastModifiedBy>mahluma</cp:lastModifiedBy>
  <dcterms:modified xsi:type="dcterms:W3CDTF">2012-03-20T23:05:19Z</dcterms:modified>
  <cp:revision>46</cp:revision>
  <dc:subject/>
  <dc:title>Slide 1</dc:title>
</cp:coreProperties>
</file>